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229F-3E05-4849-A2C8-ED12048FA6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658C-2042-47C1-8150-5CB52E9C9686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 no indicators yet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ty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ty at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99F-840B-47D8-B741-BDFA406E5EE2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F32-26ED-4C0F-9976-915FA66FC9E5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tious –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– not suffici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verb/action – OK, but perhaps better to have achie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ed – language not clear and open to different 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ty in EFA SC, not SD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P and  misses out adult lite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 EFA SC does provide equity language in the details but danger that lost if not in h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e clear what type of measurement is involved in increase by x% (from what start date, by country and aggregated into global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06DF-D9DD-4571-9F41-0164000A8CC2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, with particular attention to gender equality and the most marginalized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149-75E7-4E32-BC12-CEB9AD970003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creasing, by 2030, the percentage of youth (15-24 years) and adults (15+) with the knowledge, skills and competences to access decent work and lead healthy and productive lives to x% and y% respectively, through upper secondary and tertiary education, technical and vocational education and training, and lifelong learning opportunities, with particular attention to gender equality and the most marginaliz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FB4-7F5C-4700-9C65-D845367CAC81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404C-0CE1-4910-A658-0775B9429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1D56-3F3B-4D99-88AB-323A86CF3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147E-1B19-4661-A94A-BD9497C45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148E-5931-4C79-BAEB-8ADD7D37F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02A7-FF66-4275-8CB3-E55940CD57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2239-7FBF-4D85-9F1B-41D86160B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69CA-708E-4093-A09A-55AFE5156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47D2-D097-4B40-B2F3-995D81EDE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8E7B-1A22-4870-A1A6-0EB57C04E2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5A51-D4D4-4981-AB63-E3BEA581EF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91DB-EAEA-426C-ACC3-53A5C19DF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A1BA-E2C8-4B76-A5DD-B59D958A3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CB17-D8ED-449A-A615-6B606D371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09B4-9F63-455A-9B25-0A6B1F6B05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DB7F-59DB-4218-A90F-FC507A80B6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6030-92A9-4F71-906E-5B06CA1DE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3764-14D4-4A87-86FA-6D0F097AA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D460-F149-4E3A-99F7-AB15A40B3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2F12-5834-4831-8485-82D57839B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DC82-5DD2-44A0-B41D-8C93C80FE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C384-8424-4234-A806-AA3D5CEFB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7810-C620-4F04-8717-D192D2023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3F62-E6C1-464D-B3F8-803D538F9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F011-24BD-48E7-8994-C76E111DF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400" y="6451560"/>
            <a:ext cx="90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228F-CD62-44AD-85C2-BC6ECE2A8D1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3"/>
          <p:cNvSpPr/>
          <p:nvPr/>
        </p:nvSpPr>
        <p:spPr>
          <a:xfrm>
            <a:off x="2057400" y="6343560"/>
            <a:ext cx="357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aculty of Educ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3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Rectangle 14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Rectangle 2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aculty of Educ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862400" y="6447960"/>
            <a:ext cx="9003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270-A2B3-4BAC-934E-801C84BDDF27}" type="slidenum">
              <a:rPr b="0" lang="en-GB" sz="1000" spc="-1" strike="noStrike">
                <a:solidFill>
                  <a:srgbClr val="003e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3760" y="2015640"/>
            <a:ext cx="837396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-2015 goals and targets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ear, measurable, and equitable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4920" y="3789000"/>
            <a:ext cx="83739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sor Pauline Rose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  <a:p>
            <a:pPr indent="0"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I/UFKIET Roundtable on Post-2015 Goals, Targets and Indicators for Educ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aculty of Educ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fferentiating goals, targets and indicato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rcRect l="-14234" t="0" r="-14234" b="0"/>
          <a:stretch/>
        </p:blipFill>
        <p:spPr>
          <a:xfrm>
            <a:off x="395280" y="1628640"/>
            <a:ext cx="7900920" cy="4346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5324400" y="573264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e72"/>
                </a:solidFill>
                <a:latin typeface="Arial"/>
              </a:rPr>
              <a:t>Source: High Level Panel on Post-2015</a:t>
            </a:r>
            <a:endParaRPr b="0" lang="en-US" sz="14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3760" y="1708200"/>
            <a:ext cx="83739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Arial"/>
              </a:rPr>
              <a:t>Expresses an ambitious, but specific, commitment. Always starts with a verb/action.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EFA SC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72"/>
                </a:solidFill>
                <a:latin typeface="Arial"/>
              </a:rPr>
              <a:t>Ensure equitable and inclusive quality education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felong learning </a:t>
            </a:r>
            <a:r>
              <a:rPr b="0" lang="en-US" sz="2400" spc="-1" strike="noStrike">
                <a:solidFill>
                  <a:srgbClr val="003e72"/>
                </a:solidFill>
                <a:latin typeface="Arial"/>
              </a:rPr>
              <a:t>for all by 2030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72"/>
                </a:solidFill>
                <a:latin typeface="Arial"/>
              </a:rPr>
              <a:t>SDSN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72"/>
                </a:solidFill>
                <a:latin typeface="Arial"/>
              </a:rPr>
              <a:t>Ensu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learning</a:t>
            </a:r>
            <a:r>
              <a:rPr b="0" lang="en-US" sz="2400" spc="-1" strike="noStrike">
                <a:solidFill>
                  <a:srgbClr val="003e72"/>
                </a:solidFill>
                <a:latin typeface="Arial"/>
              </a:rPr>
              <a:t> for all children and youth for life and livelihood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rgets – changes since Daka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4920" y="1412640"/>
            <a:ext cx="8373960" cy="40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overage of areas of education quite consistent with Dakar goals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Need for consistent equity language across all of the targets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All except HLP combine (pre-primary), primary and lower secondary – danger that will lead to neglect of the marginalised 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Adult literacy missing from HLP and SDSN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More focus on finance [EFA SC – domestic; SDSN – includes aid]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FA SC unique in including teacher targe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OWG most off-track in including non-measurable targets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Attempt to make sure targets have measurable outcome (some for universal coverage, others to increase by x%)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232200" indent="-2322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rgets – pre-primary/ECCE examp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920" y="155736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Arial"/>
              </a:rPr>
              <a:t>Quantified sub-components that will contribute in a major way to achievement of goal. Should be an outcome variable. 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EFA SC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Increase the percentage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of children who access ECCE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to at least x% 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start primary school ‘ready to learn’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HLP: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Increase by x% 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the proportion of children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ble to</a:t>
            </a:r>
            <a:r>
              <a:rPr b="0" lang="en-GB" sz="2400" spc="-1" strike="noStrike">
                <a:solidFill>
                  <a:srgbClr val="003e72"/>
                </a:solidFill>
                <a:latin typeface="Arial"/>
              </a:rPr>
              <a:t> access and complete primary education</a:t>
            </a:r>
            <a:endParaRPr b="0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rgets – primary/lower secondary examp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48428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MDG 2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nsure that, by 2015, children everywhere, boys and girls alike, will be able to complete a full course of primary schooling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FA SC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All children complete free and compulsory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quality basic education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t least 10 years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 and achiev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relevant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 learning outcomes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HLP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nsure every child, regardless of circumstance, completes primary school able to read, write and count well enough to meet minimum standards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nsure every child, regardless of circumstance, has access to lower secondary education and increase the proportion of adolescents who achiev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measurable learning outcomes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o x%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rgets – skills examp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FA goal 3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nsuring that the learning needs of all young people and adults are met through equitable access to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ppropriate learning and life skills programmes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EFA SC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Increase the percentage of youth and adults with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knowledge, skills and competencies to access decent work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o at least x% and y% respectively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ll learners acquire knowledge skills, values and attitudes for global citizenship and sustainable development 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pmr43</cp:lastModifiedBy>
  <cp:lastPrinted>2009-04-22T19:24:48Z</cp:lastPrinted>
  <dcterms:modified xsi:type="dcterms:W3CDTF">2014-05-01T12:23:32Z</dcterms:modified>
  <cp:revision>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